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A67-30AD-42F7-999E-CBECF37A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09D-0E88-4FE7-A680-6324EBB5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E5B-24C4-4872-989E-72BEE786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FC3-E62D-436B-A2A5-4526F0DB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12A47-FE1D-4A52-B28D-77AC06A6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2994A-66CB-4B81-BA65-5D92D72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42B66-D5F3-4A5A-9368-2C5003C7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227E7-CE7D-43EE-AC1C-C932D35E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81294-FC09-47EB-B57E-C4EE5E4D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86544-D2AF-4A8F-A9E6-0C17AAC3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CEED2-9538-4809-A623-069ACCE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019-F968-447D-A630-B83276C1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B115B-1FCA-4359-9737-C43D7D9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56CA6-6B75-4259-A765-6BF08BD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1AA10-74FE-43EF-B2F3-75317C8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E9EF5-8CDF-4543-9039-02CE4F70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A58ED-4EAF-4BCB-B118-4D22877A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FCC-FFCF-4142-A4A0-4649E451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523-8050-4D8D-BB4D-5AB6E1D5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6D0-790A-44CC-95CB-8C5F4B5C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AC3-3D59-4592-B156-82E8E4CF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D0E-5942-44EB-8F4B-8520387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7A6-2F33-4125-A63A-2728CE1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A10-25DC-4E43-ABB5-234BEAD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2968-E0BB-4BD4-B549-C1DD945BC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69DD-4508-4F9E-9870-DDF116EE6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: Beverly Br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Gara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garaje. Es muy grande y estupe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2435400"/>
            <a:ext cx="40384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omedor. Es muy bonito y mod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261792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omed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omedor. Es muy bonito y mod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48320" y="2617920"/>
            <a:ext cx="40384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Mans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m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. Es muy grande y bel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o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cocina. Es, bonita y mode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Sa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sala. La sala es muy fabulosa y antigu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38760" y="2660760"/>
            <a:ext cx="4000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B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ño. Es muy nuevo y gran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2514600"/>
            <a:ext cx="4648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cuarto. Es muy impresionante y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038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Jard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jardin. Es muy magnifico y bon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24480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Patio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patio. Es muy lujoso y bel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374920"/>
            <a:ext cx="4038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09:24Z</dcterms:created>
  <dc:creator>brionbev</dc:creator>
  <dc:description/>
  <dc:language>en-US</dc:language>
  <cp:lastModifiedBy>brionbev</cp:lastModifiedBy>
  <dcterms:modified xsi:type="dcterms:W3CDTF">2013-04-03T17:57:50Z</dcterms:modified>
  <cp:revision>10</cp:revision>
  <dc:subject/>
  <dc:title>La Casa</dc:title>
</cp:coreProperties>
</file>